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75726-C440-419B-8BC4-ECCE97F81C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5D3E1-8EAE-4F02-9322-4C5AB72CE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CAFC5-29E5-4064-9F56-BEC9DBB219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AF98-3985-47F2-A6CB-1B8BDA9C4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7D84-0327-443B-ACC5-42817C376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8EFA-5328-4FDE-A3D8-B6FCEAA70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BA52-956D-4E8B-BB07-B04CEE16E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94B8-CBFC-44DE-A414-2A9512FE2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F150-E76F-4FAB-8941-1B8515592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A0E8-2187-4B8A-8CBB-0610768B3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EDAD-B91F-435B-B411-E1E4ACF21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4927-B592-4191-9802-23D688D96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84C1-533A-468B-9C06-8B04D5430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E58D-FD95-4604-A8C2-48871A71D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2D62-4A9E-42D7-948D-3547420D0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9E972-AC38-45F9-A4FB-68199CE87F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67616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rajectory Plan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66320" y="3352320"/>
            <a:ext cx="7086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Arial"/>
              </a:rPr>
              <a:t>University of Bridg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5A5AB-6A2B-499E-8286-A1A1FC0D59E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914400" y="304920"/>
            <a:ext cx="69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Introduction to ROBOTIC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000000"/>
                </a:solidFill>
                <a:latin typeface="Arial"/>
              </a:rPr>
              <a:t>Point to point mo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Acceleration profile for cubic polynomial traj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Matlab co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yms 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qddot=-180+360*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=[0:0.01:1]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lot(t,subs(qddot,t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xlabel('Time sec'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ylabel(’Acceleration(deg/s2)'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4"/>
              <p:cNvSpPr txBox="1"/>
              <p:nvPr/>
            </p:nvSpPr>
            <p:spPr>
              <a:xfrm>
                <a:off x="1446120" y="2681280"/>
                <a:ext cx="171468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¨"/>
                      </m:accPr>
                      <m:e>
                        <m:r>
                          <m:t xml:space="preserve">q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60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8" name="Picture 6" descr="untitled"/>
          <p:cNvPicPr/>
          <p:nvPr/>
        </p:nvPicPr>
        <p:blipFill>
          <a:blip r:embed="rId1"/>
          <a:stretch/>
        </p:blipFill>
        <p:spPr>
          <a:xfrm>
            <a:off x="4038480" y="2666880"/>
            <a:ext cx="452916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000000"/>
                </a:solidFill>
                <a:latin typeface="Arial"/>
              </a:rPr>
              <a:t>HW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800" spc="-1" strike="noStrike">
                <a:solidFill>
                  <a:srgbClr val="000000"/>
                </a:solidFill>
                <a:latin typeface="Arial"/>
              </a:rPr>
              <a:t>A single link robot with a rotary joint is at </a:t>
            </a:r>
            <a:r>
              <a:rPr b="1" i="1" lang="az-Cyrl-AZ" sz="2800" spc="-1" strike="noStrike">
                <a:solidFill>
                  <a:srgbClr val="000000"/>
                </a:solidFill>
                <a:latin typeface="Arial"/>
              </a:rPr>
              <a:t>Ө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=15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ْ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grees. It is desired to move the joint in a smooth manner to </a:t>
            </a:r>
            <a:r>
              <a:rPr b="1" i="1" lang="az-Cyrl-AZ" sz="2800" spc="-1" strike="noStrike">
                <a:solidFill>
                  <a:srgbClr val="000000"/>
                </a:solidFill>
                <a:latin typeface="Arial"/>
              </a:rPr>
              <a:t>Ө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=75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ْ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n 3 sec. Find the coefficeints of a cubic to bring the manipulator to rest at the go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Object 5"/>
              <p:cNvSpPr txBox="1"/>
              <p:nvPr/>
            </p:nvSpPr>
            <p:spPr>
              <a:xfrm>
                <a:off x="2286000" y="3962520"/>
                <a:ext cx="320040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4"/>
              <p:cNvSpPr txBox="1"/>
              <p:nvPr/>
            </p:nvSpPr>
            <p:spPr>
              <a:xfrm>
                <a:off x="617400" y="4724280"/>
                <a:ext cx="689148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deg/sec,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W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ask is to take the end point of the RR robot from (0.5, 0.0, 0.0) to (0.5, 0.3, 0.0) in the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ame in a period of 5 seconds.  Assume the robot is at rest at the starting point and should come to come to a complete stop at the final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Given the 6 constraints: (n=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4"/>
              <p:cNvSpPr txBox="1"/>
              <p:nvPr/>
            </p:nvSpPr>
            <p:spPr>
              <a:xfrm>
                <a:off x="990720" y="2362320"/>
                <a:ext cx="6629400" cy="25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{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</m:eqAr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acc>
                      <m:accPr>
                        <m:chr m:val="¨"/>
                      </m:accPr>
                      <m:e>
                        <m:r>
                          <m:t xml:space="preserve">q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    {</m:t>
                    </m:r>
                    <m:acc>
                      <m:accPr>
                        <m:chr m:val="¨"/>
                      </m:accPr>
                      <m:e>
                        <m:r>
                          <m:t xml:space="preserve">q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is the start time       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is the end time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,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and 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are the initial position , velocity and acceleration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,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and 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are the final position , velocity and acceleratio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000000"/>
                </a:solidFill>
                <a:latin typeface="Arial"/>
              </a:rPr>
              <a:t>Point to point mo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800" spc="-1" strike="noStrike">
                <a:solidFill>
                  <a:srgbClr val="000000"/>
                </a:solidFill>
                <a:latin typeface="Arial"/>
              </a:rPr>
              <a:t>Quintic Traje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6 coefficients (6 constrai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Define the trajectory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</a:rPr>
              <a:t>q(t)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to be a polynomial of degree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</a:rPr>
              <a:t>The desired 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</a:rPr>
              <a:t>The desired accele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4"/>
              <p:cNvSpPr txBox="1"/>
              <p:nvPr/>
            </p:nvSpPr>
            <p:spPr>
              <a:xfrm>
                <a:off x="2286000" y="3583080"/>
                <a:ext cx="320040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5"/>
              <p:cNvSpPr txBox="1"/>
              <p:nvPr/>
            </p:nvSpPr>
            <p:spPr>
              <a:xfrm>
                <a:off x="1994040" y="4724280"/>
                <a:ext cx="370836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q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Object 6"/>
              <p:cNvSpPr txBox="1"/>
              <p:nvPr/>
            </p:nvSpPr>
            <p:spPr>
              <a:xfrm>
                <a:off x="2033640" y="5638680"/>
                <a:ext cx="335268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¨"/>
                      </m:accPr>
                      <m:e>
                        <m:r>
                          <m:t xml:space="preserve">q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000000"/>
                </a:solidFill>
                <a:latin typeface="Arial"/>
              </a:rPr>
              <a:t>Point to point mo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Evalautation of the </a:t>
            </a:r>
            <a:r>
              <a:rPr b="1" i="1" lang="en-IE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n-IE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 coeff to satify the const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10"/>
              <p:cNvSpPr txBox="1"/>
              <p:nvPr/>
            </p:nvSpPr>
            <p:spPr>
              <a:xfrm>
                <a:off x="1143000" y="2743200"/>
                <a:ext cx="4419720" cy="28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5</m:t>
                            </m:r>
                          </m:sup>
                        </m:sSubSup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</m:sSubSup>
                      </m:e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6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5</m:t>
                            </m:r>
                          </m:sup>
                        </m:sSubSup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</m:sSubSup>
                      </m:e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6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000000"/>
                </a:solidFill>
                <a:latin typeface="Arial"/>
              </a:rPr>
              <a:t>Point to point mo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Combined the six equations into a single matrix eq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4"/>
              <p:cNvSpPr txBox="1"/>
              <p:nvPr/>
            </p:nvSpPr>
            <p:spPr>
              <a:xfrm>
                <a:off x="914400" y="2209680"/>
                <a:ext cx="6524640" cy="390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e>
                                <m:e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e>
                                <m:e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3</m:t>
                                      </m:r>
                                    </m:sup>
                                  </m:sSubSup>
                                </m:e>
                                <m:e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4</m:t>
                                      </m:r>
                                    </m:sup>
                                  </m:sSubSup>
                                </m:e>
                                <m:e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5</m:t>
                                      </m:r>
                                    </m:sup>
                                  </m:sSubSup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3</m:t>
                                  </m:r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e>
                                <m:e>
                                  <m:r>
                                    <m:t xml:space="preserve">4</m:t>
                                  </m:r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3</m:t>
                                      </m:r>
                                    </m:sup>
                                  </m:sSubSup>
                                </m:e>
                                <m:e>
                                  <m:r>
                                    <m:t xml:space="preserve">5</m:t>
                                  </m:r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4</m:t>
                                      </m:r>
                                    </m:sup>
                                  </m:sSubSup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6</m:t>
                                  </m:r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0</m:t>
                                  </m:r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3</m:t>
                                      </m:r>
                                    </m:sup>
                                  </m:sSubSup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</m:sSub>
                                </m:e>
                                <m:e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e>
                                <m:e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  <m:sup>
                                      <m:r>
                                        <m:t xml:space="preserve">3</m:t>
                                      </m:r>
                                    </m:sup>
                                  </m:sSubSup>
                                </m:e>
                                <m:e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  <m:sup>
                                      <m:r>
                                        <m:t xml:space="preserve">4</m:t>
                                      </m:r>
                                    </m:sup>
                                  </m:sSubSup>
                                </m:e>
                                <m:e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  <m:sup>
                                      <m:r>
                                        <m:t xml:space="preserve">5</m:t>
                                      </m:r>
                                    </m:sup>
                                  </m:sSubSup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3</m:t>
                                  </m:r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e>
                                <m:e>
                                  <m:r>
                                    <m:t xml:space="preserve">4</m:t>
                                  </m:r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  <m:sup>
                                      <m:r>
                                        <m:t xml:space="preserve">3</m:t>
                                      </m:r>
                                    </m:sup>
                                  </m:sSubSup>
                                </m:e>
                                <m:e>
                                  <m:r>
                                    <m:t xml:space="preserve">5</m:t>
                                  </m:r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  <m:sup>
                                      <m:r>
                                        <m:t xml:space="preserve">4</m:t>
                                      </m:r>
                                    </m:sup>
                                  </m:sSubSup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6</m:t>
                                  </m:r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0</m:t>
                                  </m:r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  <m:sup>
                                      <m:r>
                                        <m:t xml:space="preserve">3</m:t>
                                      </m:r>
                                    </m:sup>
                                  </m:sSubSup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4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5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q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q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000000"/>
                </a:solidFill>
                <a:latin typeface="Arial"/>
              </a:rPr>
              <a:t>Point to point mo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Combined the six equations into a single matrix eq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4"/>
              <p:cNvSpPr txBox="1"/>
              <p:nvPr/>
            </p:nvSpPr>
            <p:spPr>
              <a:xfrm>
                <a:off x="779400" y="2435400"/>
                <a:ext cx="6794640" cy="34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5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e>
                                <m:e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e>
                                <m:e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3</m:t>
                                      </m:r>
                                    </m:sup>
                                  </m:sSubSup>
                                </m:e>
                                <m:e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4</m:t>
                                      </m:r>
                                    </m:sup>
                                  </m:sSubSup>
                                </m:e>
                                <m:e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5</m:t>
                                      </m:r>
                                    </m:sup>
                                  </m:sSubSup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3</m:t>
                                  </m:r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e>
                                <m:e>
                                  <m:r>
                                    <m:t xml:space="preserve">4</m:t>
                                  </m:r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3</m:t>
                                      </m:r>
                                    </m:sup>
                                  </m:sSubSup>
                                </m:e>
                                <m:e>
                                  <m:r>
                                    <m:t xml:space="preserve">5</m:t>
                                  </m:r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4</m:t>
                                      </m:r>
                                    </m:sup>
                                  </m:sSubSup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6</m:t>
                                  </m:r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0</m:t>
                                  </m:r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3</m:t>
                                      </m:r>
                                    </m:sup>
                                  </m:sSubSup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</m:sSub>
                                </m:e>
                                <m:e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e>
                                <m:e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  <m:sup>
                                      <m:r>
                                        <m:t xml:space="preserve">3</m:t>
                                      </m:r>
                                    </m:sup>
                                  </m:sSubSup>
                                </m:e>
                                <m:e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  <m:sup>
                                      <m:r>
                                        <m:t xml:space="preserve">4</m:t>
                                      </m:r>
                                    </m:sup>
                                  </m:sSubSup>
                                </m:e>
                                <m:e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  <m:sup>
                                      <m:r>
                                        <m:t xml:space="preserve">5</m:t>
                                      </m:r>
                                    </m:sup>
                                  </m:sSubSup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3</m:t>
                                  </m:r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e>
                                <m:e>
                                  <m:r>
                                    <m:t xml:space="preserve">4</m:t>
                                  </m:r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  <m:sup>
                                      <m:r>
                                        <m:t xml:space="preserve">3</m:t>
                                      </m:r>
                                    </m:sup>
                                  </m:sSubSup>
                                </m:e>
                                <m:e>
                                  <m:r>
                                    <m:t xml:space="preserve">5</m:t>
                                  </m:r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  <m:sup>
                                      <m:r>
                                        <m:t xml:space="preserve">4</m:t>
                                      </m:r>
                                    </m:sup>
                                  </m:sSubSup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6</m:t>
                                  </m:r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0</m:t>
                                  </m:r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  <m:sup>
                                      <m:r>
                                        <m:t xml:space="preserve">3</m:t>
                                      </m:r>
                                    </m:sup>
                                  </m:sSubSup>
                                </m:e>
                              </m:mr>
                            </m:m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Linear segments with parabolic be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We want the middle part of the trajectory to have a constant velocity 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Ramp up to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Linear seg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Ramp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untitled"/>
          <p:cNvPicPr/>
          <p:nvPr/>
        </p:nvPicPr>
        <p:blipFill>
          <a:blip r:embed="rId1"/>
          <a:stretch/>
        </p:blipFill>
        <p:spPr>
          <a:xfrm>
            <a:off x="3962520" y="2819520"/>
            <a:ext cx="481968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rajectory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trajectory is a function of time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q(t) s.t. q(t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)=q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And q(t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)=q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Arial"/>
              </a:rPr>
              <a:t>f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-t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: time taken to execute the trajec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Point to point motion: plan a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ajectory from the initial configuration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q(t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the final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q(t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 In some cases, there may be constraints (for example: if the robot must begin and end with zero veloci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000000"/>
                </a:solidFill>
                <a:latin typeface="Arial"/>
              </a:rPr>
              <a:t>Point to point mo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oose the trajectory of polynomial of degree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 if you have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n+1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constrai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Ex (1):Given the 4 constraints: (n=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4"/>
              <p:cNvSpPr txBox="1"/>
              <p:nvPr/>
            </p:nvSpPr>
            <p:spPr>
              <a:xfrm>
                <a:off x="1295280" y="3657600"/>
                <a:ext cx="4724640" cy="210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{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</m:eqAr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is the start time       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is the end time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and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are the initial position and velocity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and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are the final position and velocity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000000"/>
                </a:solidFill>
                <a:latin typeface="Arial"/>
              </a:rPr>
              <a:t>Point to point mo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800" spc="-1" strike="noStrike">
                <a:solidFill>
                  <a:srgbClr val="000000"/>
                </a:solidFill>
                <a:latin typeface="Arial"/>
              </a:rPr>
              <a:t>Cubic Traje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4 coefficients (4 constrai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Define the trajectory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</a:rPr>
              <a:t>q(t)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to be a polynomial of degree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</a:rPr>
              <a:t>The desired 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5"/>
              <p:cNvSpPr txBox="1"/>
              <p:nvPr/>
            </p:nvSpPr>
            <p:spPr>
              <a:xfrm>
                <a:off x="2286000" y="3505320"/>
                <a:ext cx="320040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7"/>
              <p:cNvSpPr txBox="1"/>
              <p:nvPr/>
            </p:nvSpPr>
            <p:spPr>
              <a:xfrm>
                <a:off x="2317680" y="4952880"/>
                <a:ext cx="237348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q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000000"/>
                </a:solidFill>
                <a:latin typeface="Arial"/>
              </a:rPr>
              <a:t>Point to point mo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Evaluation of the </a:t>
            </a:r>
            <a:r>
              <a:rPr b="1" i="1" lang="en-IE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n-IE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 coeff to satify the const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5"/>
              <p:cNvSpPr txBox="1"/>
              <p:nvPr/>
            </p:nvSpPr>
            <p:spPr>
              <a:xfrm>
                <a:off x="2895480" y="2133720"/>
                <a:ext cx="182880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{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</m:eqAr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4"/>
              <p:cNvSpPr txBox="1"/>
              <p:nvPr/>
            </p:nvSpPr>
            <p:spPr>
              <a:xfrm>
                <a:off x="1157400" y="4800600"/>
                <a:ext cx="5111640" cy="12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8"/>
              <p:cNvSpPr txBox="1"/>
              <p:nvPr/>
            </p:nvSpPr>
            <p:spPr>
              <a:xfrm>
                <a:off x="2057400" y="4114800"/>
                <a:ext cx="259092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 {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q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ct 11"/>
              <p:cNvSpPr txBox="1"/>
              <p:nvPr/>
            </p:nvSpPr>
            <p:spPr>
              <a:xfrm>
                <a:off x="1295280" y="2743200"/>
                <a:ext cx="4900680" cy="12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000000"/>
                </a:solidFill>
                <a:latin typeface="Arial"/>
              </a:rPr>
              <a:t>Point to point mo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Combined the four equations into a single matrix eq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7"/>
              <p:cNvSpPr txBox="1"/>
              <p:nvPr/>
            </p:nvSpPr>
            <p:spPr>
              <a:xfrm>
                <a:off x="1219320" y="2819520"/>
                <a:ext cx="451008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  <m:e>
                              <m:sSubSup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  <m:e>
                              <m:sSubSup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  <m:sup>
                                  <m:r>
                                    <m:t xml:space="preserve">3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3</m:t>
                              </m:r>
                              <m:sSubSup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</m:e>
                            <m:e>
                              <m:sSubSup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  <m:e>
                              <m:sSubSup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  <m:sup>
                                  <m:r>
                                    <m:t xml:space="preserve">3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3</m:t>
                              </m:r>
                              <m:sSubSup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000000"/>
                </a:solidFill>
                <a:latin typeface="Arial"/>
              </a:rPr>
              <a:t>Point to point mo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11"/>
              <p:cNvSpPr txBox="1"/>
              <p:nvPr/>
            </p:nvSpPr>
            <p:spPr>
              <a:xfrm>
                <a:off x="990720" y="3200400"/>
                <a:ext cx="172692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4"/>
              <p:cNvSpPr txBox="1"/>
              <p:nvPr/>
            </p:nvSpPr>
            <p:spPr>
              <a:xfrm>
                <a:off x="533520" y="2286000"/>
                <a:ext cx="70596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deg/sec,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ct 14"/>
              <p:cNvSpPr txBox="1"/>
              <p:nvPr/>
            </p:nvSpPr>
            <p:spPr>
              <a:xfrm>
                <a:off x="3962520" y="3200400"/>
                <a:ext cx="182880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</m:m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Object 17"/>
              <p:cNvSpPr txBox="1"/>
              <p:nvPr/>
            </p:nvSpPr>
            <p:spPr>
              <a:xfrm>
                <a:off x="914400" y="4343400"/>
                <a:ext cx="21589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18"/>
              <p:cNvSpPr txBox="1"/>
              <p:nvPr/>
            </p:nvSpPr>
            <p:spPr>
              <a:xfrm>
                <a:off x="1143000" y="4876920"/>
                <a:ext cx="315756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000000"/>
                </a:solidFill>
                <a:latin typeface="Arial"/>
              </a:rPr>
              <a:t>Point to point mo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Cubic polynomial traj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Matlab co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yms 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q=10-90*t^2+60*t^3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=[0:0.01:1]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lot(t,subs(q,t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xlabel('Time sec'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ylabel('Angle(deg)'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Object 4"/>
              <p:cNvSpPr txBox="1"/>
              <p:nvPr/>
            </p:nvSpPr>
            <p:spPr>
              <a:xfrm>
                <a:off x="1447920" y="2362320"/>
                <a:ext cx="205740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80" name="Picture 5" descr="untitled"/>
          <p:cNvPicPr/>
          <p:nvPr/>
        </p:nvPicPr>
        <p:blipFill>
          <a:blip r:embed="rId1"/>
          <a:stretch/>
        </p:blipFill>
        <p:spPr>
          <a:xfrm>
            <a:off x="4038480" y="2666880"/>
            <a:ext cx="4543560" cy="30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000000"/>
                </a:solidFill>
                <a:latin typeface="Arial"/>
              </a:rPr>
              <a:t>Point to point mo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Velocity profile for cubic polynomial traj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Matlab co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yms 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qdot=-180*t+180*t^2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=[0:0.01:1]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lot(t,subs(qdot,t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xlabel('Time sec'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ylabel(’velocity(deg/s)'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4"/>
              <p:cNvSpPr txBox="1"/>
              <p:nvPr/>
            </p:nvSpPr>
            <p:spPr>
              <a:xfrm>
                <a:off x="1527120" y="2362320"/>
                <a:ext cx="189864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q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84" name="Picture 8" descr="untitled"/>
          <p:cNvPicPr/>
          <p:nvPr/>
        </p:nvPicPr>
        <p:blipFill>
          <a:blip r:embed="rId1"/>
          <a:stretch/>
        </p:blipFill>
        <p:spPr>
          <a:xfrm>
            <a:off x="3962520" y="2666880"/>
            <a:ext cx="4557600" cy="31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yssam</cp:lastModifiedBy>
  <dcterms:modified xsi:type="dcterms:W3CDTF">2008-04-13T00:17:25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